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E76-232E-466F-A1A4-1AEDC314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251-6D98-4603-9B06-328EE427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44F-F808-488F-8A6A-836F6DE0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DB6-C417-4FB0-BB10-0AC44A50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0FB3B-6FC2-4893-B9B9-982F969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3D41-4F24-4939-82AD-C28C27A9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A69C-02AB-462D-B14A-0E70AD73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0C631-B47C-4E14-9933-256BF19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DABFF-A4C2-4269-9EA8-A702C9A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0416A-A046-4F7E-8733-12258F1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35E0-EA35-465F-A172-0F5875E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40BA1-93E5-4A14-A13C-FD80CCC7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DCA7B-941B-4630-931B-54DDE746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F90-31B1-452E-9FED-9CCCD81C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3CA-0682-4530-9A43-B09CF350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94E-0F57-4211-A632-4336854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89A-A8F8-4DE3-99EC-5D90095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AC0-733D-46A2-875A-85CA54A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9A1B-934E-41FE-9726-0927F97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A70-32F8-4AED-8962-14712AB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9DFD-E7AD-4643-9AB0-002F88F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68D-BAC6-43AA-B86E-46EA346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8D4-7E98-4342-8E9B-E12659D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2D4-18C7-4776-B18E-A6ABFD28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57EC-93CA-4E02-AFD3-27976E6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F0D4-251C-43F9-8BDF-13D01DE4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2A7-C670-408B-B1C8-89A4F7A0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7509-4474-4F9C-8A2C-1481FD7C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D9DA-ED44-4AEF-B515-CFB305DD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8E6C-3C08-4D2C-A528-C0084C1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5547-2CD0-441E-B6CB-778DA86A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C6A6-3207-4F7B-AA9F-9D329E10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B271-7044-40EA-82C5-1CA4165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7AE-F2A9-4AAC-9523-FE58C54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2EA2-956E-4833-B25F-2C9DCBD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FCE8-98D6-410E-ACF8-5E8510C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EBDC-507A-4C1D-87AA-217322B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4132-20AC-4AEF-BC53-227D87A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1832-CF1F-442C-B192-E023C66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35BA-3E47-480A-95EF-DF25E014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43E4-20DD-4AF9-81B9-C75CAE1C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33B2-C8FA-4DA2-8777-E3CFD74C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F4E6-2173-400E-A12B-58E4EF4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F287-E285-44FF-BDE4-87B3195C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A8D-B035-4F67-A44B-5E9D022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8122-6A50-44AC-94AE-0650E59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E0C4-9920-4605-BB5E-E7902E39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DCCC-7886-4528-8554-FA139075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F367-8A8F-481A-A828-B71AC29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13E9-CE67-4CEB-BC8D-B2C00AE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7046-5A18-4151-B86B-8E4B919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CBD4-453B-4E2F-9805-A665A514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D250-F24C-4C01-AD4E-4FD37E74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080F-308A-49AE-9166-F7249F8D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41DD-B38E-4CDE-9918-AE53848C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C96-5C99-4E6C-8180-B758D3A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4D5CA-1307-481B-8D28-C9BC4B8C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B928-5D3F-4495-AEEC-6CE751A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19F2-303F-4297-A5F6-15A41C04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9E2F-2E68-4CC1-8351-067E9D3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8A72-CC08-42FF-B677-CFA813F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48B0-7325-499D-8B4F-5460E7E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32DB-9307-4C5D-9139-D9E4FFF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7B8A-B2EA-4B30-AA5F-1D9675A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8FE1-A3B9-4144-B4BD-FAE4854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7D7A-D877-41ED-A172-46B89844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94B-210D-4209-A10E-ECCBFDE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034F-D8B9-4487-A4B6-F2C21DE0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D89E1-A032-42C1-B100-49FDCBA4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BD537-57C0-4A48-8C11-168E18B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ED2E-7585-4AB6-A9FA-4A9884B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7F51-39DF-41A0-95E2-973A610B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4C12-A028-4050-96F7-CB21FDB2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BBD5-7F1A-4C3E-BBDE-C8EB80C9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3D3A-046A-42C0-A51E-C8DDFAD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0EA4-FA12-485B-96D0-0A5891DA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3896-ABF3-47EE-B878-BA426E3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98-174B-42F3-BD06-1F13D7F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E528-1E92-477E-A7F0-6AA69F7E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9961-B053-4417-B590-6749579F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1ADB-A802-45C2-8F3D-33A13920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56AE-AA97-4717-BF6A-ABDAB721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A470-9570-4330-873E-1F14303A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180DB-8791-4A3C-B3B4-9836FF4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0BE2-3C63-427D-8E8C-920C1A5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433CA-EB28-4FE3-8883-CC9EAF3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A61F-1076-40B8-993F-04E0B50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D2A44-23FD-4C4E-A517-E900DBB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ACC-80CE-404C-ACA1-44C2EBF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4AD9D-E9C7-41B3-9B3E-E7F6E51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7734-A3BF-4949-A5BB-59A0155C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F9F8-93CB-4369-AFD1-F9AA3999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39A54-FD80-4471-BBF4-119F4290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D548-80BC-4EA8-93C9-15322BA7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CB9C-7441-4C63-877B-95DB0FAA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AD73-CE6F-4F2E-A49C-895A79B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AFA21-FFF2-4E7D-ADBD-C0C3A98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4D43-6DC7-47B7-93AE-3019FD21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3397-F787-42EE-BC57-8936014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B9E-5A21-4800-9B53-8234369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9F09-BAD4-40FA-A120-94519F9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4E236-7A0E-4301-AA8C-49FAF43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79B7-DB3B-4E63-8658-32836B0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9FED-2DAC-4DF5-BA18-E2BE2BB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7D48-4FCB-4F18-966A-0C6C143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44661-4A50-4CFD-AE3F-8A33D2D5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D00FA-686C-4E19-A7D8-FF3872B3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3B7CA-2D4F-482B-A522-4EC71CFB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88480-F8DB-4260-BB9C-514AD8CA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52A0E-C8D4-47CA-8189-7D5614B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DCB-AE26-4492-8CFC-50DF50677A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1FC-81D7-47CD-96F5-D62282A7A6D8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0FF0-8B73-4CE8-A280-99E2680285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caf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7AD-3C28-4116-ACAD-34D54C1B8B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AE8-3B9B-46C9-982F-BFC38C141E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230-6EC2-486C-8635-2FD20DA04D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695-B5DF-4461-8920-BF0302D6EFD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93FB-13F4-472A-A15B-7C3C079041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6EF-63D5-4505-A9B9-832BFACFA3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BFD-D42C-411D-98C7-68FC96D54A1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emical_reactions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a/url?sa=i&amp;source=images&amp;cd=&amp;cad=rja&amp;docid=mzztDNprUbX87M&amp;tbnid=41ROJ3JYmNZG_M:&amp;ved=0CAgQjRwwAA&amp;url=http%3A%2F%2Fimpliedmortality.com%2F2010%2F06%2F30%2Fon-match-head-combustibility-and-explosive-tennis-ball-mechanics%2F&amp;ei=OLlvUuXXGtO3kQf6kID4Dw&amp;psig=AFQjCNECjPP7a737P6mtFlpcrIQU8Y1Q8A&amp;ust=1383140024496205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url?sa=i&amp;source=images&amp;cd=&amp;cad=rja&amp;docid=UyxZfOqKxkEnmM&amp;tbnid=xH9GSdoUZks_aM:&amp;ved=0CAgQjRwwADgT&amp;url=http%3A%2F%2Fseerpress.com%2Ftrafigura-fined-840000-for-dumping-toxic-waste-in-ivory-coast%2F3191%2F&amp;ei=fbpvUqCmCs2FkQfzvYCADg&amp;psig=AFQjCNF2G_LsmU-pKltf1jxCljQbDgfnmw&amp;ust=138314034923816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a/url?sa=i&amp;source=images&amp;cd=&amp;cad=rja&amp;docid=-g-hZbl06QIKHM&amp;tbnid=pHqFmB3vqdKU3M:&amp;ved=0CAgQjRwwAA&amp;url=http%3A%2F%2Fwww.periodictable.com%2FElements%2F011%2F&amp;ei=ObpvUpHkN43TkQft2oH4AQ&amp;psig=AFQjCNEydQ_0KQU5e4pUHn1pfCrCeuVkFA&amp;ust=1383140281998978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Aharoni"/>
                <a:ea typeface="Aharoni"/>
              </a:rPr>
              <a:t>Chemical Properties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399" name="Picture 8" descr="matter_intro_2_240"/>
          <p:cNvPicPr/>
          <p:nvPr/>
        </p:nvPicPr>
        <p:blipFill>
          <a:blip r:embed="rId1"/>
          <a:stretch/>
        </p:blipFill>
        <p:spPr>
          <a:xfrm>
            <a:off x="2895480" y="2362320"/>
            <a:ext cx="3422880" cy="342252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22C-7D12-42BB-A4B8-418A640D7D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E3A-4BCB-4604-9D98-70F6EC8CB3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8669565"/>
          <p:cNvPicPr/>
          <p:nvPr/>
        </p:nvPicPr>
        <p:blipFill>
          <a:blip r:embed="rId1"/>
          <a:stretch/>
        </p:blipFill>
        <p:spPr>
          <a:xfrm>
            <a:off x="1295280" y="762120"/>
            <a:ext cx="62485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c600"/>
                </a:solidFill>
                <a:latin typeface="Arial"/>
              </a:rPr>
              <a:t>Physical Change vs Chemical Change</a:t>
            </a:r>
            <a:endParaRPr b="0" lang="en-US" sz="3200" spc="-1" strike="noStrike">
              <a:solidFill>
                <a:srgbClr val="3e3d2d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33520" y="1447920"/>
          <a:ext cx="7848360" cy="5029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change in the form or state of a substanc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hemical composition, (the type of particles), remain the sa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: cutting, breaking, crushing, dissolving, melting, freezing, evaporating, conden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s a new substance with different physical and chemical properti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hemical composition is chang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: Reaction heats up, chemicals change col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EE4-7C1D-40F9-969E-76B705854D3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94c600"/>
                </a:solidFill>
                <a:latin typeface="Arial"/>
              </a:rPr>
              <a:t>What type of change is occurring in this cand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j0078759"/>
          <p:cNvPicPr/>
          <p:nvPr/>
        </p:nvPicPr>
        <p:blipFill>
          <a:blip r:embed="rId1"/>
          <a:stretch/>
        </p:blipFill>
        <p:spPr>
          <a:xfrm>
            <a:off x="5562720" y="3276720"/>
            <a:ext cx="1738080" cy="2220840"/>
          </a:xfrm>
          <a:prstGeom prst="rect">
            <a:avLst/>
          </a:prstGeom>
          <a:ln w="0">
            <a:noFill/>
          </a:ln>
        </p:spPr>
      </p:pic>
      <p:sp>
        <p:nvSpPr>
          <p:cNvPr id="449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780-5144-42E2-81C6-DDFA10E745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B55-945C-4A27-AAD0-3ED47B9D98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changes"/>
          <p:cNvPicPr/>
          <p:nvPr/>
        </p:nvPicPr>
        <p:blipFill>
          <a:blip r:embed="rId1"/>
          <a:stretch/>
        </p:blipFill>
        <p:spPr>
          <a:xfrm>
            <a:off x="228600" y="609480"/>
            <a:ext cx="5029200" cy="54864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"/>
          <p:cNvSpPr/>
          <p:nvPr/>
        </p:nvSpPr>
        <p:spPr>
          <a:xfrm>
            <a:off x="5486400" y="11336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p. 160 – 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p. 163 do the Learning Check # 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p. 165 do questions  #1-4, 6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"/>
          <p:cNvSpPr/>
          <p:nvPr/>
        </p:nvSpPr>
        <p:spPr>
          <a:xfrm>
            <a:off x="5486400" y="609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5334120" y="3429000"/>
            <a:ext cx="1981080" cy="1600200"/>
          </a:xfrm>
          <a:prstGeom prst="wedgeRectCallout">
            <a:avLst>
              <a:gd name="adj1" fmla="val -83972"/>
              <a:gd name="adj2" fmla="val 28374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t a chemical change because the glowing wire does not form new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4c600"/>
                </a:solidFill>
                <a:latin typeface="Arial"/>
              </a:rPr>
              <a:t>Chemical Properties and Particle Theory</a:t>
            </a:r>
            <a:endParaRPr b="0" lang="en-US" sz="38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lnSpc>
                <a:spcPct val="80000"/>
              </a:lnSpc>
              <a:spcBef>
                <a:spcPts val="174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emical properties describe the ability of a substance to change and form new substances with new physical and chemica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174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particle theo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different substances have different arrangements of particles. During a chemical reaction, particles are rearranged to form the new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2C00-668A-410F-9000-23940F2368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500px-Chemical_reacti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4267080"/>
            <a:ext cx="4762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Examples of Chemical Properties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ity with other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mat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962520"/>
            <a:ext cx="1862280" cy="262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rafigura-toxic-was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962520"/>
            <a:ext cx="3552840" cy="2361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10">
            <a:hlinkClick r:id="rId5"/>
          </p:cNvPr>
          <p:cNvPicPr/>
          <p:nvPr/>
        </p:nvPicPr>
        <p:blipFill>
          <a:blip r:embed="rId6"/>
          <a:srcRect l="13509" t="0" r="0" b="0"/>
          <a:stretch/>
        </p:blipFill>
        <p:spPr>
          <a:xfrm>
            <a:off x="3733920" y="1752480"/>
            <a:ext cx="2438280" cy="2114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ddt-household-pests-usda-mar47a"/>
          <p:cNvPicPr/>
          <p:nvPr/>
        </p:nvPicPr>
        <p:blipFill>
          <a:blip r:embed="rId7"/>
          <a:stretch/>
        </p:blipFill>
        <p:spPr>
          <a:xfrm>
            <a:off x="6058080" y="1638360"/>
            <a:ext cx="308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33160" y="8380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an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emical rea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rting substances are called the </a:t>
            </a: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reactan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substances produced are called </a:t>
            </a: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produc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418-C20A-4BB3-B551-978529E88E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"/>
          <p:cNvSpPr/>
          <p:nvPr/>
        </p:nvSpPr>
        <p:spPr>
          <a:xfrm>
            <a:off x="4495680" y="39625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Arial"/>
              </a:rPr>
              <a:t>Baking Soda and Vinegar are Reactive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baking soda and the vinegar are the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the two are mixe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observ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at a gas is produced (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se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ubbles being form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“salt” (called sodium acetate), water and carbon dioxide particles were not present before. These new particles are the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d were formed during the chemical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1"/>
          <a:srcRect l="0" t="18347" r="0" b="12960"/>
          <a:stretch/>
        </p:blipFill>
        <p:spPr>
          <a:xfrm>
            <a:off x="1523880" y="4648320"/>
            <a:ext cx="6912000" cy="1765080"/>
          </a:xfrm>
          <a:prstGeom prst="rect">
            <a:avLst/>
          </a:prstGeom>
          <a:ln w="0">
            <a:noFill/>
          </a:ln>
        </p:spPr>
      </p:pic>
      <p:sp>
        <p:nvSpPr>
          <p:cNvPr id="417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07CC-F2ED-49F8-A950-0EA71D20E77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you tell if a Chemical Change has occurred?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420" name="Picture 9" descr="EggDone2"/>
          <p:cNvPicPr/>
          <p:nvPr/>
        </p:nvPicPr>
        <p:blipFill>
          <a:blip r:embed="rId1"/>
          <a:stretch/>
        </p:blipFill>
        <p:spPr>
          <a:xfrm>
            <a:off x="5715000" y="160020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12119-sof_screen01"/>
          <p:cNvPicPr/>
          <p:nvPr/>
        </p:nvPicPr>
        <p:blipFill>
          <a:blip r:embed="rId2"/>
          <a:stretch/>
        </p:blipFill>
        <p:spPr>
          <a:xfrm>
            <a:off x="577800" y="41148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3203_74193646377_30747591377_2037752_796910_n"/>
          <p:cNvPicPr/>
          <p:nvPr/>
        </p:nvPicPr>
        <p:blipFill>
          <a:blip r:embed="rId3"/>
          <a:stretch/>
        </p:blipFill>
        <p:spPr>
          <a:xfrm>
            <a:off x="3962520" y="4114800"/>
            <a:ext cx="1679400" cy="2530440"/>
          </a:xfrm>
          <a:prstGeom prst="rect">
            <a:avLst/>
          </a:prstGeom>
          <a:ln w="0">
            <a:noFill/>
          </a:ln>
        </p:spPr>
      </p:pic>
      <p:sp>
        <p:nvSpPr>
          <p:cNvPr id="423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989F-4D1C-4AE8-B3D6-4A34F0AD5A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e3d2d"/>
                </a:solidFill>
                <a:latin typeface="Arial"/>
              </a:rPr>
              <a:t>There are 5 signs that can be used as evidence of a chemical change:</a:t>
            </a:r>
            <a:endParaRPr b="0" lang="en-US" sz="32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426" name="Picture 9" descr="http://static.howstuffworks.com/gif/science-projects-for-kids-chemical-reaction-7.jpg"/>
          <p:cNvPicPr/>
          <p:nvPr/>
        </p:nvPicPr>
        <p:blipFill>
          <a:blip r:embed="rId1"/>
          <a:stretch/>
        </p:blipFill>
        <p:spPr>
          <a:xfrm>
            <a:off x="1704960" y="205740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ͅ°"/>
          <p:cNvPicPr/>
          <p:nvPr/>
        </p:nvPicPr>
        <p:blipFill>
          <a:blip r:embed="rId2"/>
          <a:stretch/>
        </p:blipFill>
        <p:spPr>
          <a:xfrm>
            <a:off x="5281560" y="2057400"/>
            <a:ext cx="2352600" cy="1905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http://www.glowstickfactory.com/product_images/uploaded_images/light-sti222ck-2.jpg"/>
          <p:cNvPicPr/>
          <p:nvPr/>
        </p:nvPicPr>
        <p:blipFill>
          <a:blip r:embed="rId3"/>
          <a:stretch/>
        </p:blipFill>
        <p:spPr>
          <a:xfrm>
            <a:off x="838080" y="4267080"/>
            <a:ext cx="2506680" cy="1905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http://xprizecars.com/images/Battery_9V.jpg"/>
          <p:cNvPicPr/>
          <p:nvPr/>
        </p:nvPicPr>
        <p:blipFill>
          <a:blip r:embed="rId4"/>
          <a:stretch/>
        </p:blipFill>
        <p:spPr>
          <a:xfrm>
            <a:off x="5505480" y="4114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B360-C09B-418B-B936-06221F6781A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image001"/>
          <p:cNvPicPr/>
          <p:nvPr/>
        </p:nvPicPr>
        <p:blipFill>
          <a:blip r:embed="rId5"/>
          <a:stretch/>
        </p:blipFill>
        <p:spPr>
          <a:xfrm>
            <a:off x="3662280" y="4267080"/>
            <a:ext cx="158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 of chemical chang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ormation of a gas (detectable odour or bubbles formed that is not a change of stat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ormation of a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. A precipitate is a solid substance that forms when two solutions are mixed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nergy in the form of heat or light is either released or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 permanent unexpected change in col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lectricity is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0315-C584-49B5-892D-03C6DCB87C9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"/>
              </a:rPr>
              <a:t>Chemical Changes are Different from Physical Change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call that physical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ters only the form or state of a substance (freezing, breaking, melt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chemical composition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f State are phys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: Boiling water, cracking eggs, chopping wood, bending a nail, dissolving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253F-2A9F-4DE9-B83C-8A29EC9743B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3" descr="crack-the-egg"/>
          <p:cNvPicPr/>
          <p:nvPr/>
        </p:nvPicPr>
        <p:blipFill>
          <a:blip r:embed="rId1"/>
          <a:stretch/>
        </p:blipFill>
        <p:spPr>
          <a:xfrm>
            <a:off x="762120" y="4724280"/>
            <a:ext cx="2860560" cy="1905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sugar-solution"/>
          <p:cNvPicPr/>
          <p:nvPr/>
        </p:nvPicPr>
        <p:blipFill>
          <a:blip r:embed="rId2"/>
          <a:stretch/>
        </p:blipFill>
        <p:spPr>
          <a:xfrm>
            <a:off x="4038480" y="4724280"/>
            <a:ext cx="34290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8:08:22Z</dcterms:created>
  <dc:creator>OCDSB</dc:creator>
  <dc:description/>
  <dc:language>en-US</dc:language>
  <cp:lastModifiedBy>Katie</cp:lastModifiedBy>
  <dcterms:modified xsi:type="dcterms:W3CDTF">2014-10-01T19:32:55Z</dcterms:modified>
  <cp:revision>32</cp:revision>
  <dc:subject/>
  <dc:title>Physical and Chemical Change</dc:title>
</cp:coreProperties>
</file>